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0CD-0425-4F2D-AD67-3C0187BE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9CB6-AA89-414A-9A8F-17DD1C05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D30-2EC9-4C88-98D7-78D77F25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BB6-EECA-43C2-B731-9999F77B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2924-574A-4D8C-8EFC-CAFFCDC6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4349-C9D8-42CA-963A-D8473FA4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2809-F540-4CBE-8EF6-9955CFBE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01F1-FA2C-4662-AF62-1DA1D0DA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5571-7283-4070-83D0-888C9BE5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0E01-EFEB-42B3-8A06-54628590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CEF0-5E7A-414E-B7A5-CB0C1FF5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DB9-3EC3-4B5E-8C3D-430CB486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8A4D-313F-4903-8C70-606BC7F7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E0FF-5D56-4B33-8C73-3BC2D73E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F1FF-34DB-4863-9FC3-9AF084B8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D4C5-198D-463B-9784-E2A7CCE5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E625-5142-4B47-9C63-B5499FC2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762-7B36-4CCE-B44D-943F1C20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169-CCB6-4BE3-B308-4E0FA0A4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C9D-AF2E-4ADB-A956-6562E67F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28B-0683-4A68-91A6-B22B5D0F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A58-9183-47E1-915A-24AA9BA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EFB-306D-4E8E-9013-C72151F8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357-643C-4DB1-8BC9-D34D606F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95A2-17EE-41D4-AB9C-511ABB1EF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4D03-FB9B-419F-8749-4D6F3F8E6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184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9640" y="333360"/>
            <a:ext cx="7993080" cy="5613480"/>
            <a:chOff x="539640" y="333360"/>
            <a:chExt cx="7993080" cy="5613480"/>
          </a:xfrm>
        </p:grpSpPr>
        <p:sp>
          <p:nvSpPr>
            <p:cNvPr id="90" name=""/>
            <p:cNvSpPr/>
            <p:nvPr/>
          </p:nvSpPr>
          <p:spPr>
            <a:xfrm>
              <a:off x="3492360" y="4761000"/>
              <a:ext cx="5040360" cy="1185840"/>
            </a:xfrm>
            <a:prstGeom prst="roundRect">
              <a:avLst>
                <a:gd name="adj" fmla="val 81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92360" y="3213000"/>
              <a:ext cx="5040360" cy="1293840"/>
            </a:xfrm>
            <a:prstGeom prst="roundRect">
              <a:avLst>
                <a:gd name="adj" fmla="val 81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92360" y="1125360"/>
              <a:ext cx="5040360" cy="1943280"/>
            </a:xfrm>
            <a:prstGeom prst="roundRect">
              <a:avLst>
                <a:gd name="adj" fmla="val 81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640" y="1738440"/>
              <a:ext cx="234468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04-2006 г.г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971640" y="333360"/>
              <a:ext cx="7272360" cy="474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ffffff"/>
                    </a:solidFill>
                    <a:miter/>
                  </a:ln>
                  <a:solidFill>
                    <a:srgbClr val="339966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Профильное обучение</a:t>
              </a:r>
              <a:endPara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80000" y="1341360"/>
              <a:ext cx="4497120" cy="439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ФИЗИКО-МАТЕМАТИЧЕСК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80000" y="1862280"/>
              <a:ext cx="4497120" cy="43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СОЦИАЛЬНО-ГУМАНИТАР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0000" y="2367000"/>
              <a:ext cx="4497120" cy="43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ОБОРОННО-СПОРТИВ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80000" y="3357720"/>
              <a:ext cx="4497120" cy="43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ФИЗИКО-ХИМИЧЕСК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80000" y="3878280"/>
              <a:ext cx="4497120" cy="43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СОЦИАЛЬНО-ГУМАНИТАР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80000" y="4941720"/>
              <a:ext cx="4497120" cy="84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МНОГОПРОФИЛЬ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На базе универсального учебного план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9640" y="3573360"/>
              <a:ext cx="23479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05-2007 г.г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9640" y="5013360"/>
              <a:ext cx="2347920" cy="5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06-2008 г.г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79640" y="1773360"/>
              <a:ext cx="612720" cy="503280"/>
            </a:xfrm>
            <a:prstGeom prst="rightArrow">
              <a:avLst>
                <a:gd name="adj1" fmla="val 34065"/>
                <a:gd name="adj2" fmla="val 35216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79640" y="3608280"/>
              <a:ext cx="612720" cy="503280"/>
            </a:xfrm>
            <a:prstGeom prst="rightArrow">
              <a:avLst>
                <a:gd name="adj1" fmla="val 34065"/>
                <a:gd name="adj2" fmla="val 35216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79640" y="5013360"/>
              <a:ext cx="612720" cy="503280"/>
            </a:xfrm>
            <a:prstGeom prst="rightArrow">
              <a:avLst>
                <a:gd name="adj1" fmla="val 34065"/>
                <a:gd name="adj2" fmla="val 35216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Аттестация учител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58920" y="1465200"/>
          <a:ext cx="698508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65200"/>
                    <a:ext cx="698508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урсовая подготов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08000" y="1557360"/>
            <a:ext cx="7164360" cy="4751280"/>
          </a:xfrm>
          <a:prstGeom prst="roundRect">
            <a:avLst>
              <a:gd name="adj" fmla="val 6847"/>
            </a:avLst>
          </a:prstGeom>
          <a:gradFill rotWithShape="0">
            <a:gsLst>
              <a:gs pos="0">
                <a:srgbClr val="6699ff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360" y="1736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рсовая подгот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32000" y="2023920"/>
          <a:ext cx="605628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023920"/>
                    <a:ext cx="60562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Поступление выпускников в учебные заведения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71640" y="1376280"/>
            <a:ext cx="7164360" cy="4751280"/>
            <a:chOff x="971640" y="1376280"/>
            <a:chExt cx="7164360" cy="4751280"/>
          </a:xfrm>
        </p:grpSpPr>
        <p:sp>
          <p:nvSpPr>
            <p:cNvPr id="240" name=""/>
            <p:cNvSpPr/>
            <p:nvPr/>
          </p:nvSpPr>
          <p:spPr>
            <a:xfrm>
              <a:off x="971640" y="1376280"/>
              <a:ext cx="7164360" cy="4751280"/>
            </a:xfrm>
            <a:prstGeom prst="roundRect">
              <a:avLst>
                <a:gd name="adj" fmla="val 6847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1489320" y="1555560"/>
              <a:ext cx="6286320" cy="4334040"/>
              <a:chOff x="1489320" y="1555560"/>
              <a:chExt cx="6286320" cy="4334040"/>
            </a:xfrm>
          </p:grpSpPr>
          <p:sp>
            <p:nvSpPr>
              <p:cNvPr id="242" name=""/>
              <p:cNvSpPr/>
              <p:nvPr/>
            </p:nvSpPr>
            <p:spPr>
              <a:xfrm>
                <a:off x="1727280" y="1555560"/>
                <a:ext cx="604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Поступление в учебные заведени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43" name=""/>
              <p:cNvGraphicFramePr/>
              <p:nvPr/>
            </p:nvGraphicFramePr>
            <p:xfrm>
              <a:off x="1489320" y="1825560"/>
              <a:ext cx="6091200" cy="4064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89320" y="1825560"/>
                        <a:ext cx="6091200" cy="406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863640" y="1268280"/>
            <a:ext cx="7164360" cy="4805640"/>
            <a:chOff x="863640" y="1268280"/>
            <a:chExt cx="7164360" cy="4805640"/>
          </a:xfrm>
        </p:grpSpPr>
        <p:grpSp>
          <p:nvGrpSpPr>
            <p:cNvPr id="246" name=""/>
            <p:cNvGrpSpPr/>
            <p:nvPr/>
          </p:nvGrpSpPr>
          <p:grpSpPr>
            <a:xfrm>
              <a:off x="863640" y="1268280"/>
              <a:ext cx="7164360" cy="4805640"/>
              <a:chOff x="863640" y="1268280"/>
              <a:chExt cx="7164360" cy="4805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63640" y="1268280"/>
                <a:ext cx="7164360" cy="4751640"/>
              </a:xfrm>
              <a:prstGeom prst="roundRect">
                <a:avLst>
                  <a:gd name="adj" fmla="val 6847"/>
                </a:avLst>
              </a:prstGeom>
              <a:gradFill rotWithShape="0">
                <a:gsLst>
                  <a:gs pos="0">
                    <a:srgbClr val="6699ff"/>
                  </a:gs>
                  <a:gs pos="100000">
                    <a:srgbClr val="66ff33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48" name=""/>
              <p:cNvGraphicFramePr/>
              <p:nvPr/>
            </p:nvGraphicFramePr>
            <p:xfrm>
              <a:off x="1042920" y="1592280"/>
              <a:ext cx="6716880" cy="4481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42920" y="1592280"/>
                        <a:ext cx="6716880" cy="448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50" name=""/>
            <p:cNvSpPr/>
            <p:nvPr/>
          </p:nvSpPr>
          <p:spPr>
            <a:xfrm>
              <a:off x="2158920" y="1376280"/>
              <a:ext cx="43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Медалис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63640" y="873000"/>
            <a:ext cx="529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ебного пла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26920" y="404640"/>
            <a:ext cx="7631280" cy="5480280"/>
            <a:chOff x="826920" y="404640"/>
            <a:chExt cx="7631280" cy="5480280"/>
          </a:xfrm>
        </p:grpSpPr>
        <p:sp>
          <p:nvSpPr>
            <p:cNvPr id="108" name=""/>
            <p:cNvSpPr txBox="1"/>
            <p:nvPr/>
          </p:nvSpPr>
          <p:spPr>
            <a:xfrm>
              <a:off x="1833480" y="2309400"/>
              <a:ext cx="6591600" cy="141804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Учащимся предоставлена возможность выбора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349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содержания </a:t>
              </a:r>
              <a:r>
                <a:rPr b="1" i="1" lang="en-US" sz="1400" spc="-1" strike="noStrike">
                  <a:solidFill>
                    <a:srgbClr val="993300"/>
                  </a:solidFill>
                  <a:latin typeface="Arial"/>
                </a:rPr>
                <a:t>вариативной </a:t>
              </a: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части учебного плана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34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степени сложности учебных задач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349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темпа освоения учебного материала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349"/>
                </a:spcBef>
                <a:buClr>
                  <a:srgbClr val="3366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547640" y="404640"/>
              <a:ext cx="5904000" cy="100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Impact"/>
                </a:rPr>
                <a:t>ИУП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1763640" y="512640"/>
              <a:ext cx="529272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339966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Технология индивидуального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00360" y="4400640"/>
              <a:ext cx="6657840" cy="1484280"/>
            </a:xfrm>
            <a:prstGeom prst="roundRect">
              <a:avLst>
                <a:gd name="adj" fmla="val 7699"/>
              </a:avLst>
            </a:prstGeom>
            <a:gradFill rotWithShape="0">
              <a:gsLst>
                <a:gs pos="0">
                  <a:srgbClr val="66ff33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Средний балл по ЕГЭ- «4» и по русскому языку и по математике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Самые высокие индивидуальные баллы по району (80 баллов по математике и 87 по русскому языку)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80 % выпускников поступили и успешно обучаются в вузах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835280" y="1808280"/>
              <a:ext cx="2195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Преимущества: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1835280" y="3933720"/>
              <a:ext cx="169200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Результат: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6920" y="4653000"/>
              <a:ext cx="973440" cy="828720"/>
            </a:xfrm>
            <a:prstGeom prst="rightArrow">
              <a:avLst>
                <a:gd name="adj1" fmla="val 29407"/>
                <a:gd name="adj2" fmla="val 2931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6920" y="2816280"/>
              <a:ext cx="973440" cy="25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-108360" y="3896280"/>
              <a:ext cx="2124000" cy="25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84360" y="1592280"/>
              <a:ext cx="2735280" cy="757080"/>
            </a:xfrm>
            <a:prstGeom prst="ellipse">
              <a:avLst/>
            </a:prstGeom>
            <a:noFill/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76360" y="3789360"/>
              <a:ext cx="2519280" cy="684360"/>
            </a:xfrm>
            <a:prstGeom prst="ellipse">
              <a:avLst/>
            </a:prstGeom>
            <a:noFill/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50920" y="368280"/>
            <a:ext cx="8353440" cy="6229440"/>
            <a:chOff x="250920" y="368280"/>
            <a:chExt cx="8353440" cy="6229440"/>
          </a:xfrm>
        </p:grpSpPr>
        <p:sp>
          <p:nvSpPr>
            <p:cNvPr id="120" name=""/>
            <p:cNvSpPr/>
            <p:nvPr/>
          </p:nvSpPr>
          <p:spPr>
            <a:xfrm>
              <a:off x="395280" y="368280"/>
              <a:ext cx="8209080" cy="6229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6360" y="2600280"/>
              <a:ext cx="4248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Овладение </a:t>
              </a:r>
              <a:br>
                <a:rPr sz="1600"/>
              </a:b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ИКТ компетентностью. </a:t>
              </a:r>
              <a:br>
                <a:rPr sz="1600"/>
              </a:b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Способность к генерации идей,</a:t>
              </a:r>
              <a:br>
                <a:rPr sz="1600"/>
              </a:b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 замыслов и их творческой реализ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92360" y="4113360"/>
              <a:ext cx="5508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Создание авторских программ, технологий </a:t>
              </a:r>
              <a:br>
                <a:rPr sz="1600"/>
              </a:b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и методик. Издание методических пособий. Участие</a:t>
              </a:r>
              <a:br>
                <a:rPr sz="1600"/>
              </a:b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в творческих профессиональных конкурсах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4000" y="5516640"/>
              <a:ext cx="6732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одбор  и обучение кадров. Разработка программ. Апробация инновационных технологий. Освоение интерактивных форм и методов обучения и воспитания. Разработка структуры управле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0920" y="1052640"/>
              <a:ext cx="1404720" cy="3492360"/>
            </a:xfrm>
            <a:prstGeom prst="upArrow">
              <a:avLst>
                <a:gd name="adj1" fmla="val 49852"/>
                <a:gd name="adj2" fmla="val 67241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27280" y="5229360"/>
              <a:ext cx="5437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71640" y="3787920"/>
              <a:ext cx="345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455400" y="189000"/>
            <a:ext cx="8148960" cy="6553080"/>
            <a:chOff x="455400" y="189000"/>
            <a:chExt cx="8148960" cy="6553080"/>
          </a:xfrm>
        </p:grpSpPr>
        <p:sp>
          <p:nvSpPr>
            <p:cNvPr id="128" name=""/>
            <p:cNvSpPr/>
            <p:nvPr/>
          </p:nvSpPr>
          <p:spPr>
            <a:xfrm>
              <a:off x="6372360" y="5229360"/>
              <a:ext cx="504720" cy="433080"/>
            </a:xfrm>
            <a:prstGeom prst="downArrow">
              <a:avLst>
                <a:gd name="adj1" fmla="val 42537"/>
                <a:gd name="adj2" fmla="val 2490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00720" y="2133720"/>
              <a:ext cx="4103640" cy="3166920"/>
            </a:xfrm>
            <a:prstGeom prst="roundRect">
              <a:avLst>
                <a:gd name="adj" fmla="val 4926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971640" y="189000"/>
              <a:ext cx="7272360" cy="61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труктура методической работы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76360" y="1125360"/>
              <a:ext cx="187344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НМ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2060640"/>
              <a:ext cx="338436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ffff99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Заместитель директора по НИР </a:t>
              </a:r>
              <a:br>
                <a:rPr sz="1400"/>
              </a:b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Учителя-экспериментаторы </a:t>
              </a:r>
              <a:br>
                <a:rPr sz="1400"/>
              </a:b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Руководители исследовательской </a:t>
              </a:r>
              <a:br>
                <a:rPr sz="1400"/>
              </a:b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работо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00720" y="907920"/>
              <a:ext cx="4103640" cy="108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Заместитель директора по МР </a:t>
              </a:r>
              <a:br>
                <a:rPr sz="1400"/>
              </a:b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Заведующие кафедрами</a:t>
              </a:r>
              <a:br>
                <a:rPr sz="1400"/>
              </a:b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Руководители проблемно –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Исследовательских лаборатори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87280" y="3284640"/>
              <a:ext cx="230364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НОУ школ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4005360"/>
              <a:ext cx="1584360" cy="576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Сек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6920" y="4697280"/>
              <a:ext cx="288144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Гуманитар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6920" y="5229360"/>
              <a:ext cx="288144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Естественно - науч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59280" y="2421000"/>
              <a:ext cx="33847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Кафед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3983040" y="3730320"/>
              <a:ext cx="232884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lin ang="162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Физико-математ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6200000">
              <a:off x="4526280" y="3833280"/>
              <a:ext cx="2305080" cy="34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lin ang="162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Естественно-науч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4957920" y="3833280"/>
              <a:ext cx="2305080" cy="34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lin ang="162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Гуманитар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5389920" y="3834720"/>
              <a:ext cx="2305080" cy="34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lin ang="162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Иностранные язы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5821560" y="3836520"/>
              <a:ext cx="2305080" cy="34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ffff99"/>
                </a:gs>
              </a:gsLst>
              <a:lin ang="162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Физкультура и ОБ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6348240" y="3720960"/>
              <a:ext cx="233208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ffff99"/>
                </a:gs>
              </a:gsLst>
              <a:lin ang="162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Художественно-эстет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902640" y="3836520"/>
              <a:ext cx="2305080" cy="34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lin ang="162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Начальная школ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7640" y="5661000"/>
              <a:ext cx="4176720" cy="7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7c80"/>
                </a:gs>
                <a:gs pos="50000">
                  <a:srgbClr val="ffffff"/>
                </a:gs>
                <a:gs pos="100000">
                  <a:srgbClr val="ff7c80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Проблемно-исследовательск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лаборатор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31" idx="1"/>
              <a:endCxn id="132" idx="1"/>
            </p:cNvCxnSpPr>
            <p:nvPr/>
          </p:nvCxnSpPr>
          <p:spPr>
            <a:xfrm flipV="1" rot="10800000">
              <a:off x="669240" y="1414080"/>
              <a:ext cx="792720" cy="1115280"/>
            </a:xfrm>
            <a:prstGeom prst="curvedConnector5">
              <a:avLst>
                <a:gd name="adj1" fmla="val 127033"/>
                <a:gd name="adj2" fmla="val 49983"/>
                <a:gd name="adj3" fmla="val 127033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3348000" y="1413000"/>
              <a:ext cx="1152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6720" y="1989000"/>
              <a:ext cx="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8360" y="29973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68360" y="364500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2" name=""/>
            <p:cNvCxnSpPr>
              <a:stCxn id="135" idx="6"/>
              <a:endCxn id="136" idx="3"/>
            </p:cNvCxnSpPr>
            <p:nvPr/>
          </p:nvCxnSpPr>
          <p:spPr>
            <a:xfrm>
              <a:off x="3074760" y="4293720"/>
              <a:ext cx="648360" cy="585000"/>
            </a:xfrm>
            <a:prstGeom prst="curvedConnector5">
              <a:avLst>
                <a:gd name="adj1" fmla="val 132833"/>
                <a:gd name="adj2" fmla="val 50000"/>
                <a:gd name="adj3" fmla="val 132833"/>
              </a:avLst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35" idx="2"/>
              <a:endCxn id="137" idx="1"/>
            </p:cNvCxnSpPr>
            <p:nvPr/>
          </p:nvCxnSpPr>
          <p:spPr>
            <a:xfrm flipV="1" rot="10800000">
              <a:off x="812160" y="4293720"/>
              <a:ext cx="649800" cy="1116720"/>
            </a:xfrm>
            <a:prstGeom prst="curvedConnector5">
              <a:avLst>
                <a:gd name="adj1" fmla="val 132982"/>
                <a:gd name="adj2" fmla="val 49983"/>
                <a:gd name="adj3" fmla="val 132982"/>
              </a:avLst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4788000" y="6453360"/>
              <a:ext cx="504720" cy="288720"/>
            </a:xfrm>
            <a:prstGeom prst="downArrow">
              <a:avLst>
                <a:gd name="adj1" fmla="val 42537"/>
                <a:gd name="adj2" fmla="val 2490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72360" y="6453360"/>
              <a:ext cx="504720" cy="288720"/>
            </a:xfrm>
            <a:prstGeom prst="downArrow">
              <a:avLst>
                <a:gd name="adj1" fmla="val 42537"/>
                <a:gd name="adj2" fmla="val 2490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85080" y="6453360"/>
              <a:ext cx="504720" cy="288720"/>
            </a:xfrm>
            <a:prstGeom prst="downArrow">
              <a:avLst>
                <a:gd name="adj1" fmla="val 42537"/>
                <a:gd name="adj2" fmla="val 2490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55400" y="189000"/>
            <a:ext cx="8293320" cy="6553080"/>
            <a:chOff x="455400" y="189000"/>
            <a:chExt cx="8293320" cy="6553080"/>
          </a:xfrm>
        </p:grpSpPr>
        <p:sp>
          <p:nvSpPr>
            <p:cNvPr id="158" name=""/>
            <p:cNvSpPr/>
            <p:nvPr/>
          </p:nvSpPr>
          <p:spPr>
            <a:xfrm>
              <a:off x="6372360" y="5229360"/>
              <a:ext cx="504720" cy="433080"/>
            </a:xfrm>
            <a:prstGeom prst="downArrow">
              <a:avLst>
                <a:gd name="adj1" fmla="val 42537"/>
                <a:gd name="adj2" fmla="val 2490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00720" y="2133720"/>
              <a:ext cx="4248000" cy="3166920"/>
            </a:xfrm>
            <a:prstGeom prst="roundRect">
              <a:avLst>
                <a:gd name="adj" fmla="val 4926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971640" y="189000"/>
              <a:ext cx="7272360" cy="61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Изменения в структуре методической работы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125360"/>
              <a:ext cx="187344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НМ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4360" y="2060640"/>
              <a:ext cx="338436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ffff99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Заместитель директора по НИР </a:t>
              </a:r>
              <a:br>
                <a:rPr sz="1400"/>
              </a:b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Учителя-экспериментаторы </a:t>
              </a:r>
              <a:br>
                <a:rPr sz="1400"/>
              </a:b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Руководители исследовательской </a:t>
              </a:r>
              <a:br>
                <a:rPr sz="1400"/>
              </a:b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работо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27640" y="907920"/>
              <a:ext cx="4321080" cy="1081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Заместитель директора по МР </a:t>
              </a:r>
              <a:br>
                <a:rPr sz="1400"/>
              </a:b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Заведующие кафедрами</a:t>
              </a:r>
              <a:br>
                <a:rPr sz="1400"/>
              </a:b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Руководители творческих проблемных групп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87280" y="3284640"/>
              <a:ext cx="230364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НОУ школ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76360" y="4005360"/>
              <a:ext cx="1584360" cy="576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Сек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6920" y="4697280"/>
              <a:ext cx="288144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Гуманитар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6920" y="5229360"/>
              <a:ext cx="288144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Естественно - науч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59280" y="2421000"/>
              <a:ext cx="338472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100000">
                  <a:srgbClr val="ffff00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Кафед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3983040" y="3730320"/>
              <a:ext cx="2328840" cy="57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lin ang="162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Физико-математ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4526280" y="3833280"/>
              <a:ext cx="2305080" cy="34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lin ang="162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Естественно-науч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4957920" y="3833280"/>
              <a:ext cx="2305080" cy="34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lin ang="162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Гуманитар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5389920" y="3834720"/>
              <a:ext cx="2305080" cy="34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lin ang="162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Иностранные язы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6111720" y="3617640"/>
              <a:ext cx="2343240" cy="812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7c80"/>
                </a:gs>
                <a:gs pos="50000">
                  <a:srgbClr val="ffff99"/>
                </a:gs>
                <a:gs pos="100000">
                  <a:srgbClr val="ff7c8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Кафедра здоровье-сберегающих технолог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6902640" y="3834720"/>
              <a:ext cx="2305080" cy="34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lin ang="162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Начальная школ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56000" y="5661000"/>
              <a:ext cx="4392720" cy="7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7c80"/>
                </a:gs>
                <a:gs pos="50000">
                  <a:srgbClr val="ffffff"/>
                </a:gs>
                <a:gs pos="100000">
                  <a:srgbClr val="ff7c80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Творческие проблемные групп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Мастер -класс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6" name=""/>
            <p:cNvCxnSpPr>
              <a:stCxn id="161" idx="1"/>
              <a:endCxn id="162" idx="1"/>
            </p:cNvCxnSpPr>
            <p:nvPr/>
          </p:nvCxnSpPr>
          <p:spPr>
            <a:xfrm flipV="1" rot="10800000">
              <a:off x="669240" y="1414080"/>
              <a:ext cx="792720" cy="1115280"/>
            </a:xfrm>
            <a:prstGeom prst="curvedConnector5">
              <a:avLst>
                <a:gd name="adj1" fmla="val 127033"/>
                <a:gd name="adj2" fmla="val 49983"/>
                <a:gd name="adj3" fmla="val 127033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3348000" y="141300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16720" y="1989000"/>
              <a:ext cx="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68360" y="29973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68360" y="364500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65" idx="6"/>
              <a:endCxn id="166" idx="3"/>
            </p:cNvCxnSpPr>
            <p:nvPr/>
          </p:nvCxnSpPr>
          <p:spPr>
            <a:xfrm>
              <a:off x="3074760" y="4293720"/>
              <a:ext cx="648360" cy="585000"/>
            </a:xfrm>
            <a:prstGeom prst="curvedConnector5">
              <a:avLst>
                <a:gd name="adj1" fmla="val 132833"/>
                <a:gd name="adj2" fmla="val 50000"/>
                <a:gd name="adj3" fmla="val 132833"/>
              </a:avLst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65" idx="2"/>
              <a:endCxn id="167" idx="1"/>
            </p:cNvCxnSpPr>
            <p:nvPr/>
          </p:nvCxnSpPr>
          <p:spPr>
            <a:xfrm flipV="1" rot="10800000">
              <a:off x="812160" y="4293720"/>
              <a:ext cx="649800" cy="1116720"/>
            </a:xfrm>
            <a:prstGeom prst="curvedConnector5">
              <a:avLst>
                <a:gd name="adj1" fmla="val 132982"/>
                <a:gd name="adj2" fmla="val 49983"/>
                <a:gd name="adj3" fmla="val 132982"/>
              </a:avLst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4788000" y="6453360"/>
              <a:ext cx="504720" cy="288720"/>
            </a:xfrm>
            <a:prstGeom prst="downArrow">
              <a:avLst>
                <a:gd name="adj1" fmla="val 42537"/>
                <a:gd name="adj2" fmla="val 2490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72360" y="6453360"/>
              <a:ext cx="504720" cy="288720"/>
            </a:xfrm>
            <a:prstGeom prst="downArrow">
              <a:avLst>
                <a:gd name="adj1" fmla="val 42537"/>
                <a:gd name="adj2" fmla="val 2490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85080" y="6453360"/>
              <a:ext cx="504720" cy="288720"/>
            </a:xfrm>
            <a:prstGeom prst="downArrow">
              <a:avLst>
                <a:gd name="adj1" fmla="val 42537"/>
                <a:gd name="adj2" fmla="val 2490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468360" y="333360"/>
            <a:ext cx="8280360" cy="6343560"/>
            <a:chOff x="468360" y="333360"/>
            <a:chExt cx="8280360" cy="6343560"/>
          </a:xfrm>
        </p:grpSpPr>
        <p:sp>
          <p:nvSpPr>
            <p:cNvPr id="187" name=""/>
            <p:cNvSpPr/>
            <p:nvPr/>
          </p:nvSpPr>
          <p:spPr>
            <a:xfrm>
              <a:off x="3311640" y="1125360"/>
              <a:ext cx="5364000" cy="5551560"/>
            </a:xfrm>
            <a:custGeom>
              <a:avLst/>
              <a:gdLst>
                <a:gd name="textAreaLeft" fmla="*/ 113400 w 5364000"/>
                <a:gd name="textAreaRight" fmla="*/ 5250600 w 5364000"/>
                <a:gd name="textAreaTop" fmla="*/ 113400 h 5551560"/>
                <a:gd name="textAreaBottom" fmla="*/ 5438160 h 5551560"/>
              </a:gdLst>
              <a:ahLst/>
              <a:rect l="textAreaLeft" t="textAreaTop" r="textAreaRight" b="textAreaBottom"/>
              <a:pathLst>
                <a:path w="21600" h="22355">
                  <a:moveTo>
                    <a:pt x="1560" y="0"/>
                  </a:moveTo>
                  <a:arcTo wR="1560" hR="1560" stAng="16200000" swAng="-5400000"/>
                  <a:lnTo>
                    <a:pt x="0" y="20795"/>
                  </a:lnTo>
                  <a:arcTo wR="1560" hR="1560" stAng="10800000" swAng="-5400000"/>
                  <a:lnTo>
                    <a:pt x="20040" y="22355"/>
                  </a:lnTo>
                  <a:arcTo wR="1560" hR="1560" stAng="5400000" swAng="-5400000"/>
                  <a:lnTo>
                    <a:pt x="21600" y="1560"/>
                  </a:lnTo>
                  <a:arcTo wR="1560" hR="156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99ff"/>
                </a:gs>
              </a:gsLst>
              <a:lin ang="108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35640" y="1449360"/>
              <a:ext cx="360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</a:rPr>
                <a:t>авторские программы </a:t>
              </a:r>
              <a:br>
                <a:rPr sz="2000"/>
              </a:br>
              <a:r>
                <a:rPr b="1" lang="en-US" sz="2000" spc="-1" strike="noStrike">
                  <a:solidFill>
                    <a:srgbClr val="993300"/>
                  </a:solidFill>
                  <a:latin typeface="Arial"/>
                </a:rPr>
                <a:t>элективных курс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35640" y="2133720"/>
              <a:ext cx="3670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</a:rPr>
                <a:t>из них вошли в сборники</a:t>
              </a:r>
              <a:br>
                <a:rPr sz="2000"/>
              </a:br>
              <a:r>
                <a:rPr b="1" lang="en-US" sz="2000" spc="-1" strike="noStrike">
                  <a:solidFill>
                    <a:srgbClr val="993300"/>
                  </a:solidFill>
                  <a:latin typeface="Arial"/>
                </a:rPr>
                <a:t>издательства «Перемена» и издательства «Глобус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35640" y="3178080"/>
              <a:ext cx="4213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</a:rPr>
                <a:t>авторских технологий, на основе технологии ИОСО, Чошанова, Гузика, модульной,  проектной технологии  и технологии сотрудниче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35640" y="490536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</a:rPr>
                <a:t>интегрированных курс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35640" y="5445000"/>
              <a:ext cx="38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</a:rPr>
                <a:t>дистанционных курс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6000" y="14144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3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56000" y="227808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56000" y="34653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56000" y="53006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92360" y="468936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1368360" y="333360"/>
              <a:ext cx="5327640" cy="6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Результативность</a:t>
              </a:r>
              <a:endPara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8360" y="2394000"/>
              <a:ext cx="2179440" cy="213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Созд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авторских программ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технологи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и методик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64000" y="3213000"/>
              <a:ext cx="720720" cy="505080"/>
            </a:xfrm>
            <a:prstGeom prst="rightArrow">
              <a:avLst>
                <a:gd name="adj1" fmla="val 50000"/>
                <a:gd name="adj2" fmla="val 35674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969840" y="333360"/>
            <a:ext cx="7780320" cy="5761080"/>
            <a:chOff x="969840" y="333360"/>
            <a:chExt cx="7780320" cy="5761080"/>
          </a:xfrm>
        </p:grpSpPr>
        <p:sp>
          <p:nvSpPr>
            <p:cNvPr id="202" name=""/>
            <p:cNvSpPr/>
            <p:nvPr/>
          </p:nvSpPr>
          <p:spPr>
            <a:xfrm>
              <a:off x="2592360" y="3213000"/>
              <a:ext cx="792360" cy="611280"/>
            </a:xfrm>
            <a:prstGeom prst="rightArrow">
              <a:avLst>
                <a:gd name="adj1" fmla="val 50000"/>
                <a:gd name="adj2" fmla="val 32406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386160" y="1306440"/>
              <a:ext cx="5364000" cy="4788000"/>
              <a:chOff x="3386160" y="1306440"/>
              <a:chExt cx="5364000" cy="4788000"/>
            </a:xfrm>
          </p:grpSpPr>
          <p:sp>
            <p:nvSpPr>
              <p:cNvPr id="204" name=""/>
              <p:cNvSpPr/>
              <p:nvPr/>
            </p:nvSpPr>
            <p:spPr>
              <a:xfrm>
                <a:off x="3386160" y="1306440"/>
                <a:ext cx="5364000" cy="4788000"/>
              </a:xfrm>
              <a:prstGeom prst="roundRect">
                <a:avLst>
                  <a:gd name="adj" fmla="val 7222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6699ff"/>
                  </a:gs>
                </a:gsLst>
                <a:lin ang="10800000"/>
              </a:gra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3816360" y="1484280"/>
                <a:ext cx="4716360" cy="4299840"/>
                <a:chOff x="3816360" y="1484280"/>
                <a:chExt cx="4716360" cy="42998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851280" y="1484280"/>
                  <a:ext cx="4608360" cy="131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Изданы методические пособия по истории, биологии, математике, физике (печатались в газете «Первое сентября»)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816360" y="3860640"/>
                  <a:ext cx="4716360" cy="19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Методические рекомендации по профильной и предпрофильной подготовке, по организации экспериментальной и воспитательной  работы в школе (7 сборников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887640" y="2997360"/>
                  <a:ext cx="41054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2 сборника научно-исследовательских работ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 txBox="1"/>
            <p:nvPr/>
          </p:nvSpPr>
          <p:spPr>
            <a:xfrm>
              <a:off x="1368360" y="333360"/>
              <a:ext cx="6372360" cy="6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Результативность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-500760" y="2862720"/>
              <a:ext cx="4665960" cy="172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Издани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методических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пособи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684360" y="333360"/>
            <a:ext cx="8172360" cy="6264360"/>
            <a:chOff x="684360" y="333360"/>
            <a:chExt cx="8172360" cy="6264360"/>
          </a:xfrm>
        </p:grpSpPr>
        <p:sp>
          <p:nvSpPr>
            <p:cNvPr id="212" name=""/>
            <p:cNvSpPr/>
            <p:nvPr/>
          </p:nvSpPr>
          <p:spPr>
            <a:xfrm>
              <a:off x="684360" y="1306440"/>
              <a:ext cx="7956360" cy="5291280"/>
            </a:xfrm>
            <a:prstGeom prst="roundRect">
              <a:avLst>
                <a:gd name="adj" fmla="val 722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99ff"/>
                </a:gs>
              </a:gsLst>
              <a:lin ang="108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84360" y="1521000"/>
              <a:ext cx="727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преподавателей участвовало в конкурсе лучших учителей РФ: </a:t>
              </a: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4-е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из них получили Премию Президента, </a:t>
              </a: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2-е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Премию Губернатора Волгоградской област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47640" y="2637000"/>
              <a:ext cx="716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учителей приняли участие во Всероссийском  конкурсе «Урок года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0000" y="4761000"/>
              <a:ext cx="781236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Хомутова Т.Ф.</a:t>
              </a:r>
              <a:r>
                <a:rPr b="1" lang="ru-RU" sz="1800" spc="-1" strike="noStrike">
                  <a:solidFill>
                    <a:srgbClr val="993300"/>
                  </a:solidFill>
                  <a:latin typeface="Arial"/>
                </a:rPr>
                <a:t> дважды награждалась дипломами издательства «Первое сентября» за лучшую разработку уро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анчишкина О.В.-</a:t>
              </a:r>
              <a:r>
                <a:rPr b="1" lang="ru-RU" sz="1800" spc="-1" strike="noStrike">
                  <a:solidFill>
                    <a:srgbClr val="993300"/>
                  </a:solidFill>
                  <a:latin typeface="Arial"/>
                </a:rPr>
                <a:t> призер конкурса «Самый классный классный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Александрина Т.В.</a:t>
              </a:r>
              <a:r>
                <a:rPr b="1" lang="ru-RU" sz="1800" spc="-1" strike="noStrike">
                  <a:solidFill>
                    <a:srgbClr val="993300"/>
                  </a:solidFill>
                  <a:latin typeface="Arial"/>
                </a:rPr>
                <a:t> - награждена дипломом за участие в областном фестивале учебных проект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55640" y="3429000"/>
              <a:ext cx="637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учителя - в конкурсе «Технологии успешного обучения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84360" y="4113360"/>
              <a:ext cx="605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учителей в - конкурсе «Мои инновации в образовании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5640" y="15210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2000" y="260028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5640" y="40053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5640" y="335772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720720" y="333360"/>
              <a:ext cx="763272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Участие в творческих</a:t>
              </a:r>
              <a:endParaRPr b="0" lang="en-US" sz="1800" spc="1" strike="noStrike">
                <a:ln w="0">
                  <a:noFill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755640" y="836640"/>
              <a:ext cx="763272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профессиональных конкурсах</a:t>
              </a:r>
              <a:endParaRPr b="0" lang="en-US" sz="1800" spc="1" strike="noStrike">
                <a:ln w="0">
                  <a:noFill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0" y="169992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22096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50920" y="873000"/>
            <a:ext cx="7129440" cy="4969080"/>
            <a:chOff x="1150920" y="873000"/>
            <a:chExt cx="7129440" cy="4969080"/>
          </a:xfrm>
        </p:grpSpPr>
        <p:grpSp>
          <p:nvGrpSpPr>
            <p:cNvPr id="226" name=""/>
            <p:cNvGrpSpPr/>
            <p:nvPr/>
          </p:nvGrpSpPr>
          <p:grpSpPr>
            <a:xfrm>
              <a:off x="1150920" y="1736640"/>
              <a:ext cx="7129440" cy="4105440"/>
              <a:chOff x="1150920" y="1736640"/>
              <a:chExt cx="7129440" cy="4105440"/>
            </a:xfrm>
          </p:grpSpPr>
          <p:sp>
            <p:nvSpPr>
              <p:cNvPr id="227" name=""/>
              <p:cNvSpPr/>
              <p:nvPr/>
            </p:nvSpPr>
            <p:spPr>
              <a:xfrm>
                <a:off x="1150920" y="1736640"/>
                <a:ext cx="7129440" cy="4105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63640" y="2276640"/>
                <a:ext cx="6085080" cy="266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Нагрудный знак «Почетный работник общего образования» - 4 чел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Нагрудный знак «Отличник народного просвещения» - 3 чел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Почетная грамота Министерства образования и науки  - 15 чел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987640" y="87300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Arial"/>
                </a:rPr>
                <a:t>Награды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8:53:35Z</dcterms:created>
  <dc:creator>Алексей</dc:creator>
  <dc:description/>
  <dc:language>en-US</dc:language>
  <cp:lastModifiedBy>Luda</cp:lastModifiedBy>
  <dcterms:modified xsi:type="dcterms:W3CDTF">2009-01-16T19:12:58Z</dcterms:modified>
  <cp:revision>28</cp:revision>
  <dc:subject/>
  <dc:title>Система управления методической работой в шоле как фактор достижения нового качества образования. </dc:title>
</cp:coreProperties>
</file>